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76304"/>
        <c:axId val="21466593"/>
      </c:barChart>
      <c:catAx>
        <c:axId val="950763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66593"/>
        <c:crosses val="autoZero"/>
        <c:auto val="1"/>
        <c:lblAlgn val="ctr"/>
        <c:lblOffset val="100"/>
        <c:noMultiLvlLbl val="0"/>
      </c:catAx>
      <c:valAx>
        <c:axId val="214665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763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F256-E405-4F62-8DFB-A9F49B6F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22D4-EAA8-4B53-8A0E-30BD6A63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54E-1BB6-4500-B4DC-E5CC5B58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5A1-2E16-48E7-B1A8-61DFEB6C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CC3-D47F-42A3-ABBA-3030CEAC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CD4-25E7-4EBB-8489-DE962828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CDB-B1C6-4DF7-9A87-D3B5AC3C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90E-9DAD-439E-8E91-D1A99753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2765-EDBD-4E98-A4D6-3D79FF79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E2E-906A-47C3-8B07-C6BA82A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A36-DB3D-467C-BF83-0D92FE77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A121-B204-4E7A-9217-430ED92E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4DF2F-BFD2-4940-A943-7003B96D98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