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55500"/>
        <c:axId val="2889789"/>
      </c:barChart>
      <c:catAx>
        <c:axId val="27355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9789"/>
        <c:crosses val="autoZero"/>
        <c:auto val="1"/>
        <c:lblAlgn val="ctr"/>
        <c:lblOffset val="100"/>
        <c:noMultiLvlLbl val="0"/>
      </c:catAx>
      <c:valAx>
        <c:axId val="2889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55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92C-D232-496F-9220-964CB974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D73-75C1-4B59-9702-7D15C839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B919-2967-495A-A082-A297C7C2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699-2592-4080-A584-80770666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1CFC-BF1F-4FDF-A1B4-9E35FA45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F9B-E744-4B71-933A-541EC52C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0C65-52CC-4F50-83CE-4267C469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0BE-3365-491A-8644-D570EE84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83B-D65B-4C12-B4BF-EAF0AFC9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1CD5-BE18-4353-85CE-135EA7B0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ADFB-131B-4D57-9FE1-AC8AE12C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D0C6-2B90-431E-BE8E-9DF2D529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2E54D-A121-4EF2-A16D-F71736915B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