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923570"/>
        <c:axId val="65458370"/>
      </c:barChart>
      <c:catAx>
        <c:axId val="559235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458370"/>
        <c:crosses val="autoZero"/>
        <c:auto val="1"/>
        <c:lblAlgn val="ctr"/>
        <c:lblOffset val="100"/>
        <c:noMultiLvlLbl val="0"/>
      </c:catAx>
      <c:valAx>
        <c:axId val="654583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9235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E46A-C303-47F1-AED2-BE457E801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E71A-6A46-4953-BBAD-90310087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3423-36C4-40E8-9B8D-675591B81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E7AE-02A3-42FC-95D4-0A595E2F9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A332-4032-43AE-AEC7-B86BEDED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B025-ED6C-4780-9FC3-C32FD912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5EEE-83D9-4EE1-BC82-6F59930E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A6B3-0853-4893-A3EF-5370C4CF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97A4-22FE-45C3-8474-456C4BA9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58FE-71BF-4CA6-BE2E-855214F8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3D34-0AED-48BF-B21F-F3F22889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F8D2-6F09-4B46-85ED-BA4F5483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73DA6-0686-4FBC-9D2F-787B3E3925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