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0345"/>
        <c:axId val="43344392"/>
      </c:barChart>
      <c:catAx>
        <c:axId val="8450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44392"/>
        <c:crosses val="autoZero"/>
        <c:auto val="1"/>
        <c:lblAlgn val="ctr"/>
        <c:lblOffset val="100"/>
        <c:noMultiLvlLbl val="0"/>
      </c:catAx>
      <c:valAx>
        <c:axId val="43344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0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C37-BB2A-481D-93A0-E7950787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373-73B7-4AFA-BB36-500D0E22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9CB-9A10-4D6F-83DE-865B5367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264-F856-4594-B932-85026AEB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18CA-0ED4-4950-90C9-A6FD3DAB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6CF-1AE0-4965-9C7C-08CBA7A6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BA0-50F7-4F81-8984-7FBF3ECA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3E9-85E2-4A60-B39F-25031AD1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1E9-C91F-425D-A8D5-FE80F01E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6C9-30B6-4A36-B264-214BB333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7A6-6C2E-4E43-9DEF-5F433204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66A-DFCB-4CA7-B9F4-FC6945B4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4DFAD-B4F4-42E9-B5DE-2294CA2895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