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11049"/>
        <c:axId val="32727720"/>
      </c:barChart>
      <c:catAx>
        <c:axId val="72911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7720"/>
        <c:crosses val="autoZero"/>
        <c:auto val="1"/>
        <c:lblAlgn val="ctr"/>
        <c:lblOffset val="100"/>
        <c:noMultiLvlLbl val="0"/>
      </c:catAx>
      <c:valAx>
        <c:axId val="32727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11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0AD-6B64-48B3-B02B-1E03A238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55C-ECD6-42E0-BB4D-8BFCAFF6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9E1-AF6D-4672-9C1F-6F81FAB4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E97-18CF-4473-9530-5015B127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23D-6E33-48CA-84A5-5FB7357C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8D6-0DF5-480A-9681-5CAFA581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E30-9C85-4D26-99D4-2C2800D6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242-B080-4C12-855A-FDF09FFA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CB7-5D09-43CD-8F04-075093EE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D45-27DB-4591-B043-95298910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52D-52F0-4ECF-86AC-35260CD3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F4A-0A4A-4FD2-8A7F-2FD4A2A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6BBEB-637B-44C5-8F11-5917EAA334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