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60262"/>
        <c:axId val="31494769"/>
      </c:barChart>
      <c:catAx>
        <c:axId val="8026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94769"/>
        <c:crosses val="autoZero"/>
        <c:auto val="1"/>
        <c:lblAlgn val="ctr"/>
        <c:lblOffset val="100"/>
        <c:noMultiLvlLbl val="0"/>
      </c:catAx>
      <c:valAx>
        <c:axId val="31494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6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745-ACCA-4620-9A61-0AFDE24E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031-0B28-4889-B47E-4159EDF2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CB7-1E81-4043-A0DC-379494CF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89D-EB3A-4DEE-AEFF-8D5DD1A6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B5D-5AA8-499C-8E4F-18F44422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4FC-5CAE-4456-8804-87815AC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7F4-36C3-4114-8D71-B04CDC50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6B9-B5A4-4CE3-B28E-870F1280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66A-0171-449A-8B52-8138681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9AA-0733-4650-9D4F-2284F51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2E8-419B-4974-B6C2-85558C0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4B8-9001-4E09-9506-F92832D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18DF-DEAE-4827-86CB-E3B6D24A54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