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98100"/>
        <c:axId val="18039454"/>
      </c:barChart>
      <c:catAx>
        <c:axId val="85298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39454"/>
        <c:crosses val="autoZero"/>
        <c:auto val="1"/>
        <c:lblAlgn val="ctr"/>
        <c:lblOffset val="100"/>
        <c:noMultiLvlLbl val="0"/>
      </c:catAx>
      <c:valAx>
        <c:axId val="18039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98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42B-336B-4FE3-B459-2481995E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47D-6425-4B18-BFA3-434C55A9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4B6-575E-4021-9430-0FB53E2A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C1C-558A-481C-B570-45C6A5B8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4B8-1A04-4F5B-839D-4E5028C0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E99-2620-46AF-A533-DBEC523F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7F0-ABD0-461A-BDDC-C4D9E8B6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67A-4765-4203-92E0-A8D5BA07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D2D-C267-491C-A61B-05A6F0BE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7BF-A24A-4E35-87A5-18175C33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637-1949-4B71-91F2-2A5042A4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725-3778-46E7-8AC0-3D3903EF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1C076-72E6-4491-885C-B81B37E46B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