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75439"/>
        <c:axId val="18689471"/>
      </c:barChart>
      <c:catAx>
        <c:axId val="63475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89471"/>
        <c:crosses val="autoZero"/>
        <c:auto val="1"/>
        <c:lblAlgn val="ctr"/>
        <c:lblOffset val="100"/>
        <c:noMultiLvlLbl val="0"/>
      </c:catAx>
      <c:valAx>
        <c:axId val="18689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75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3B0-1B00-45A0-B6AA-D0ABBF5F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E2A-590A-4E88-9258-49EC8EB6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C17-2C11-44EF-AFD9-85E6A5C5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C98-CCF9-4F51-8A3D-7D0A1748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CA8-202E-4A73-A155-ECDB4BDC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AA3-452B-4D1F-BAF2-982E1E8A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BFE-351C-44DE-A955-CA0D0164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03F-8FCB-43EA-964E-A25168BE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2D8-53BB-4D86-A3BB-976DB708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140-DAB8-4415-A81B-570CE87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766-536B-4ED7-A834-F8A12083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137-D1AE-4B59-9F16-9329096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71C2E-29AA-4BB1-8930-7017DACEFD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