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28342"/>
        <c:axId val="22265309"/>
      </c:barChart>
      <c:catAx>
        <c:axId val="64428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65309"/>
        <c:crosses val="autoZero"/>
        <c:auto val="1"/>
        <c:lblAlgn val="ctr"/>
        <c:lblOffset val="100"/>
        <c:noMultiLvlLbl val="0"/>
      </c:catAx>
      <c:valAx>
        <c:axId val="22265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28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065-A300-4EEC-9FE3-6BC55AFF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151-015A-4862-81C0-2A420DBF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F59-09CF-49C1-828F-00098313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53D-8D5E-4ACD-8383-A68CA483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378-A102-49FA-9B2C-894BE158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7DA-4B68-49F9-BA84-9C5280BB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3A7-F063-44A0-8E7E-11CE229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4D3-0046-4A61-80B8-17FC70B6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E85-A38C-45CB-9AB2-1991196D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CD4-6FF8-434D-A36E-60B20DB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336-3C43-430A-82C6-3BB2C69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2D6-34F6-4437-B26C-594A3FB3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245A7-64D1-4C42-B3DF-C42A8702DB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