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78894"/>
        <c:axId val="60320116"/>
      </c:barChart>
      <c:catAx>
        <c:axId val="685788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20116"/>
        <c:crosses val="autoZero"/>
        <c:auto val="1"/>
        <c:lblAlgn val="ctr"/>
        <c:lblOffset val="100"/>
        <c:noMultiLvlLbl val="0"/>
      </c:catAx>
      <c:valAx>
        <c:axId val="603201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788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A1F3-8566-47E7-B31A-F335D973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7C1A-A966-4D6C-8C00-2E1B4E39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FA80-CA1D-4D0F-8454-7090ECF6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B794-B9ED-472D-AE08-FA11CBA7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253-454E-4BA8-B9C2-B2EA1F58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48CE-D189-4BE8-B1DA-891B9EF7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5531-87D5-47C6-A393-1635CB87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36C2-014B-4D47-920B-13389482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A45F-DBF6-445B-8375-544C0099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1CD1-65A2-41F3-8135-92137717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B661-A0BB-4322-B0B7-E7587361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2B3A-5643-4929-B88A-D4BD7E0D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1788A-3FB2-4E0A-B3CB-1BD910343C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