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19790"/>
        <c:axId val="59286662"/>
      </c:barChart>
      <c:catAx>
        <c:axId val="13019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86662"/>
        <c:crosses val="autoZero"/>
        <c:auto val="1"/>
        <c:lblAlgn val="ctr"/>
        <c:lblOffset val="100"/>
        <c:noMultiLvlLbl val="0"/>
      </c:catAx>
      <c:valAx>
        <c:axId val="59286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19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B34-C478-486B-9568-6312938E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5C8-E7EE-4B1B-A35B-DEF2FD7D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7F9-E2B9-4570-AFFC-E5E8A0FE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D5F-4C15-48DA-9B32-B66421CC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F20-1DC3-467A-B2C9-61F23F58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0D5-D5CD-4A76-91A5-02899F1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B1D-6E10-4D69-8447-2C577BB2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42E-AA31-4D16-AB59-DA6F0D25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6FE-0B3E-4675-889A-77FC9DF5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72D-554E-4949-B5DB-39065C7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B6A-4016-49B3-B378-7815D07C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475-B3F7-4305-9903-4005BEB4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B9824-F0D4-443B-9074-0E9AED5012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