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8906"/>
        <c:axId val="34969327"/>
      </c:barChart>
      <c:catAx>
        <c:axId val="6368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69327"/>
        <c:crosses val="autoZero"/>
        <c:auto val="1"/>
        <c:lblAlgn val="ctr"/>
        <c:lblOffset val="100"/>
        <c:noMultiLvlLbl val="0"/>
      </c:catAx>
      <c:valAx>
        <c:axId val="34969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8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BD0-D87C-4E5D-B55C-3B8BF878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576-0DC7-4A92-BFB7-B58552EB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904-D866-4540-BF09-80B082B0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4E4-BFF5-4191-B076-8D50E96F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C88-A3DF-42B2-86CF-C277B815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DBB-6077-49DD-AA9F-6B3618A5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5C1-B48A-4AC3-AAF3-FE377C0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15D-36E7-47BF-8D53-CA94367F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CF0-F3B2-4E01-9FC7-F0C580BD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C8F-E454-4ADD-91BA-096BA590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68E-CAE4-4E5C-AB58-CF471EE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CBD-39A2-4402-9BA2-D2029D6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23F7A-DC15-4A99-9F09-E12DD77D2B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