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30457"/>
        <c:axId val="66939288"/>
      </c:barChart>
      <c:catAx>
        <c:axId val="949304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39288"/>
        <c:crosses val="autoZero"/>
        <c:auto val="1"/>
        <c:lblAlgn val="ctr"/>
        <c:lblOffset val="100"/>
        <c:noMultiLvlLbl val="0"/>
      </c:catAx>
      <c:valAx>
        <c:axId val="66939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304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83E1-58A9-494A-AA70-1662C5EC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EAF-B573-41C4-8BE0-82CF964B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C7E-6F88-436D-BE1D-5BFD666A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DF0C-40EB-4108-8AE3-E044F1AE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3F3-9A4B-4998-B6D6-C6EC7C47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47E-CFA8-4022-8D26-85C8A131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BFD4-3B4E-45EB-B72C-FA3F471A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1E1-775D-461B-89FA-231FE53B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D24-E40C-46C2-ACC5-F57E53C0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80EC-E073-4805-9AE8-63DBF3CE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BF33-A986-4371-A083-D1118DF1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CED-F614-4913-9EEA-5E054FB3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9E93F-BDF5-45FA-83F9-8B0EA103EE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