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70465"/>
        <c:axId val="67162109"/>
      </c:barChart>
      <c:catAx>
        <c:axId val="36570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62109"/>
        <c:crosses val="autoZero"/>
        <c:auto val="1"/>
        <c:lblAlgn val="ctr"/>
        <c:lblOffset val="100"/>
        <c:noMultiLvlLbl val="0"/>
      </c:catAx>
      <c:valAx>
        <c:axId val="67162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70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173-231F-4FDF-8C1F-4A53B9D6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3A9-1E8E-4445-9921-997F522F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EE1-8C78-4AB4-A235-68B63DA2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4B3-0E33-485A-9935-23667A46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14-563F-4B26-9945-5D64281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2FD-6B58-4C82-BD9A-6AE8509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4C8-AA3D-445E-AF74-9EB897D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1CF-0DC1-472D-9E1E-F01CF1E7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20F-2D51-45C1-85A7-EE0F2399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78A-D9C1-4B96-842B-244BAEE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35F-013A-4F72-8A2C-41CE3792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EFF-5528-41E6-A1E9-4962FC8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A0471-24BB-48D2-90F4-7897CC9789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