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1490"/>
        <c:axId val="6002224"/>
      </c:barChart>
      <c:catAx>
        <c:axId val="15961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224"/>
        <c:crosses val="autoZero"/>
        <c:auto val="1"/>
        <c:lblAlgn val="ctr"/>
        <c:lblOffset val="100"/>
        <c:noMultiLvlLbl val="0"/>
      </c:catAx>
      <c:valAx>
        <c:axId val="6002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1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185-C4ED-4B0B-A808-21118081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B9D-107F-488C-BB16-90E3459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27B-81C5-4444-BC3D-297C510C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8D1-DCEE-4EC3-8838-A54F303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15B-1B0A-4102-AAD5-ED85AFA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65D-A974-4799-8A9B-7BA55FC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B0B-D196-41E1-83D8-68651603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067-F35D-42DA-A922-4EAA2077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91D-5387-4FC7-B345-D8E3DEEA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F14-EE6B-4782-A92D-DF3BA29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CD3-C4B6-4AD2-9744-08DE3CE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BFA-A065-44A5-8E13-28C6739B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46592-BBF6-42EF-AA46-D6D8F0658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