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966582"/>
        <c:axId val="6733425"/>
      </c:barChart>
      <c:catAx>
        <c:axId val="10966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3425"/>
        <c:crosses val="autoZero"/>
        <c:auto val="1"/>
        <c:lblAlgn val="ctr"/>
        <c:lblOffset val="100"/>
        <c:noMultiLvlLbl val="0"/>
      </c:catAx>
      <c:valAx>
        <c:axId val="67334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66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CF8-82CA-42D2-9A82-105C062D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0CB9-A262-443A-924A-E53DEE46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DBD-2CE3-4AED-806C-19E0DB6B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B7E3-A365-4BD8-ABF4-AEA3D62D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040C-7DAB-450A-BDD7-E2C1E2C0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0479-964B-4973-A13E-A745BB75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D14C-2951-4BBA-A18B-47D917BE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EDB-C359-4BED-943E-73AE394F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C4B8-C9D9-48E5-BD62-F3DE4D3E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4175-BF0E-48C8-B35A-15DD3B0B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AE88-7F23-45F1-8CAC-6E718559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4AE2-9FAA-4B3D-A278-B822DD35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DDE70-CA0D-4D19-A588-D226222B08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