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854069"/>
        <c:axId val="19852666"/>
      </c:barChart>
      <c:catAx>
        <c:axId val="32854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52666"/>
        <c:crosses val="autoZero"/>
        <c:auto val="1"/>
        <c:lblAlgn val="ctr"/>
        <c:lblOffset val="100"/>
        <c:noMultiLvlLbl val="0"/>
      </c:catAx>
      <c:valAx>
        <c:axId val="19852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54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513-A577-4049-815A-592F025A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9BB-957C-4DD4-94F4-876B1EED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41BF-BF50-4947-974C-8247088C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57C-B940-4BC9-A662-0E6EA1F7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F5E-27B2-4894-9D28-7A0F8FA5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8F7-26C6-4552-A1E6-54711220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F5D-AC30-4F91-BCC4-73E79F78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514-4AD4-4DA4-8D4C-6F78EF66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651-3BE2-4B37-A78F-40595074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9A5-668C-4D61-AEA2-41DCE8A9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B9F-6D0A-46F8-9513-07734E31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32C-AAD6-49DD-870A-F1345DA9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0134D-0490-4663-BEBD-03697EDDFB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