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040984"/>
        <c:axId val="95663819"/>
      </c:barChart>
      <c:catAx>
        <c:axId val="97040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63819"/>
        <c:crosses val="autoZero"/>
        <c:auto val="1"/>
        <c:lblAlgn val="ctr"/>
        <c:lblOffset val="100"/>
        <c:noMultiLvlLbl val="0"/>
      </c:catAx>
      <c:valAx>
        <c:axId val="95663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40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4C3-ED3F-485E-8494-45591E28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D49-3B28-4101-BA35-E12878CB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A90-0837-4BAF-A6CF-E178C9D7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1FD-A10A-441E-AF02-40CC762A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E4C-D460-4A38-85C1-192387A0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66A-6547-475F-ACAD-F8FDD65F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5F8-57F9-40AD-8EEF-628C26A8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F42B-D923-4124-8A03-00966994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51C-231D-4F47-865E-48B66099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B29-2D5C-400B-83A4-21EBBB72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D43-DF09-465C-9860-F82B750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A8A-ACB8-4528-A7AD-688BEDC0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5F0FE-C34D-4149-B3FC-7020BC761B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