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76833"/>
        <c:axId val="72197655"/>
      </c:barChart>
      <c:catAx>
        <c:axId val="54376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97655"/>
        <c:crosses val="autoZero"/>
        <c:auto val="1"/>
        <c:lblAlgn val="ctr"/>
        <c:lblOffset val="100"/>
        <c:noMultiLvlLbl val="0"/>
      </c:catAx>
      <c:valAx>
        <c:axId val="72197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6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61D-4781-4768-BDA8-7C9C0B42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84B-BC93-4984-A339-1829ECF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409-F147-4337-80F5-45E6468B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B0C-C147-497A-9454-68D08CA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0C4-022E-4459-9697-40D169E9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C01-1BA0-49E7-BC8A-7380B52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0DA-D42F-4606-8E25-BADCD615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478-C039-4E15-9DB7-DF96423B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3B2-7757-445F-BDFA-8F524817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5BE-701A-41F9-95C3-2278329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EEF-9996-4849-BAED-2A30350B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7A0-57C0-47E4-B7D3-872F4C2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107A4-6815-45B4-80AA-F09A04F91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