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5835"/>
        <c:axId val="26451714"/>
      </c:barChart>
      <c:catAx>
        <c:axId val="90385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1714"/>
        <c:crosses val="autoZero"/>
        <c:auto val="1"/>
        <c:lblAlgn val="ctr"/>
        <c:lblOffset val="100"/>
        <c:noMultiLvlLbl val="0"/>
      </c:catAx>
      <c:valAx>
        <c:axId val="26451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5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77C-673C-4459-BB0E-61062C17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571-5ED3-409A-9BED-7D27B10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D94-2B62-4324-9B0F-50634104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26C-AB96-442B-A9A5-8CB7A21D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355-0185-4252-8EEE-DDD5661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5DA-03B5-4BD0-82FA-9CB58EA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84B-8713-40A3-9598-60FA574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BB5-41BB-48D2-A8A2-80C4AAB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60C-0B95-4705-BC3B-5FA58E12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4C6-E102-4FD0-BAD4-351BDF1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0CC-295C-4CF2-B3C4-223BC64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F6C-DFD2-4132-B355-6CB4F53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BDF2D-7C4E-4B8A-84E0-46063B8D4F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