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72784"/>
        <c:axId val="76685559"/>
      </c:barChart>
      <c:catAx>
        <c:axId val="2427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85559"/>
        <c:crosses val="autoZero"/>
        <c:auto val="1"/>
        <c:lblAlgn val="ctr"/>
        <c:lblOffset val="100"/>
        <c:noMultiLvlLbl val="0"/>
      </c:catAx>
      <c:valAx>
        <c:axId val="7668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5D7-489C-4E9E-BF8D-C3B7B461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298-5106-4B42-AE8A-D0174A6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252-BA24-4A33-A686-4C314033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F1A-7668-479E-B62C-B262E9F1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63C-1E2F-4EB1-B5F3-9878904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EBD-8061-4739-BFAD-1FA2320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16D-6C97-4A31-83DF-75EDE1D1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A57-C50F-42A3-AA9F-E43A055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825-0D32-41E1-96E1-6CDE54D9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B89-6E91-4A20-8F60-E615E0D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F21-FAA8-47E0-B04D-9CA9FF5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BCF-587E-44DE-BFC7-DC6C6FE2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0A92-2D86-46A5-AAF4-D726093D83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