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86136"/>
        <c:axId val="42681566"/>
      </c:barChart>
      <c:catAx>
        <c:axId val="93986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81566"/>
        <c:crosses val="autoZero"/>
        <c:auto val="1"/>
        <c:lblAlgn val="ctr"/>
        <c:lblOffset val="100"/>
        <c:noMultiLvlLbl val="0"/>
      </c:catAx>
      <c:valAx>
        <c:axId val="42681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86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EBB-426B-4A3F-83BE-6E0CA221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8D3-FE22-4D56-9633-D2DD5996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C58-CB42-42D7-931C-39AA61F9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43B-42D7-4A0E-BBBE-36981A7D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6E6-FD51-40AE-9417-AEEBF5F1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66E-79EB-437E-8CBC-CA6CAC55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0D7-7555-4BDA-8921-AB4C531A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D08-5DC7-4E7B-8297-27B77880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54C-BB7C-45A1-AEB6-4A72E80C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E9B-BB66-4F19-B60F-1BFB9585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D41-2C87-40B8-A800-31758B1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F25-13CE-49EC-A513-30D3CC98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E6431-68DD-4B8F-A254-D778216238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