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88778"/>
        <c:axId val="51840959"/>
      </c:barChart>
      <c:catAx>
        <c:axId val="21588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40959"/>
        <c:crosses val="autoZero"/>
        <c:auto val="1"/>
        <c:lblAlgn val="ctr"/>
        <c:lblOffset val="100"/>
        <c:noMultiLvlLbl val="0"/>
      </c:catAx>
      <c:valAx>
        <c:axId val="51840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88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772-0577-4B7E-91BF-75429776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736-5505-47BD-B3F3-C727C3FF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672-2D6B-4CE4-9144-6E9F7C1C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E97-C2B7-4BD4-8B20-10A93098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FEE-8DD6-4CEA-811A-EFC38A7B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6E0-671D-4F70-B27A-3ACC9064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D2B-284C-4760-8054-B7A6B0C7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799-F295-496D-B0C3-866CBD00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6D0-A23C-4387-AFA2-C90E7492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CE2-FB98-432E-8D1C-B28BE84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8C7-919F-42C9-BE73-556BC03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170-59ED-4648-8258-E4F30A34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58C10-9186-4619-A17C-B8A49A9EEB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