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28882"/>
        <c:axId val="64577234"/>
      </c:barChart>
      <c:catAx>
        <c:axId val="69528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77234"/>
        <c:crosses val="autoZero"/>
        <c:auto val="1"/>
        <c:lblAlgn val="ctr"/>
        <c:lblOffset val="100"/>
        <c:noMultiLvlLbl val="0"/>
      </c:catAx>
      <c:valAx>
        <c:axId val="64577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28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77C-B42A-464E-98CB-69DFEE05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CE1-5A86-4F15-A781-FBA95632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1BE-CA1A-4232-9D24-67C71C54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286-3A67-40EB-A7F9-29AE1F32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D24-CC94-4F4D-9AF3-D6744386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E96-6E6D-447F-9C9A-4018A84D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865-74CD-4DA5-A63B-51A7BB59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309-15E5-4EBE-969D-6461A703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803-7739-4589-BDD5-6C40E656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0C8-113D-4655-985D-D6D131F2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F0D-3711-421B-8AA1-47158FE4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3ED-A242-43C1-B517-D476B5F9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45271-2AAC-4625-B09B-71E2EF4B9C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