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05548"/>
        <c:axId val="57952771"/>
      </c:barChart>
      <c:catAx>
        <c:axId val="68005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2771"/>
        <c:crosses val="autoZero"/>
        <c:auto val="1"/>
        <c:lblAlgn val="ctr"/>
        <c:lblOffset val="100"/>
        <c:noMultiLvlLbl val="0"/>
      </c:catAx>
      <c:valAx>
        <c:axId val="57952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05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955-C032-440B-8A18-AE925D4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111-C0AE-4474-83DB-59A7B3B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B4C-104D-4DBA-A213-9DCEE92D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9C1-53EC-4B51-A41D-B46B90CD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D0C-ED4F-4300-95D1-12BCB4D2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F5E-E822-474E-A06C-2B004967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8CE-1CCF-44D2-88EF-503633D4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3F2-C678-4458-AFD2-C228DC67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A86-6E62-40E6-B9DF-649C3842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EBF-FEFF-49AF-8DF5-469237F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F02-90BB-498E-9E2B-53CF35FA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E1A-8549-40C2-9403-32A48F4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720CE-66FA-4E7C-AF4C-72AA220477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