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62733"/>
        <c:axId val="44618239"/>
      </c:barChart>
      <c:catAx>
        <c:axId val="61862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18239"/>
        <c:crosses val="autoZero"/>
        <c:auto val="1"/>
        <c:lblAlgn val="ctr"/>
        <c:lblOffset val="100"/>
        <c:noMultiLvlLbl val="0"/>
      </c:catAx>
      <c:valAx>
        <c:axId val="446182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62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8A0E-3188-4EF5-9AA5-BDE35BA4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4C3C-7F59-408B-B62E-8B5F8C1E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587-DEF7-4EE3-90C7-CD109E47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9390-F177-4443-809E-1DD5D916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4B2-0675-43F3-832C-1DDE6986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1E2-83A6-4552-AE11-F4BD8751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932-2C8F-448B-AF85-0457675D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4F3-4029-463A-A426-48023683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B14D-E4DA-42CF-B05D-5925DC6B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CD5-A5E7-4B4E-91D2-299C2717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4B74-D31A-42BE-99C1-1C069D68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6DD-E231-4777-8940-2754934E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FB5B2-1102-41B4-993C-107C7E9009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