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473138"/>
        <c:axId val="69171661"/>
      </c:barChart>
      <c:catAx>
        <c:axId val="354731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171661"/>
        <c:crosses val="autoZero"/>
        <c:auto val="1"/>
        <c:lblAlgn val="ctr"/>
        <c:lblOffset val="100"/>
        <c:noMultiLvlLbl val="0"/>
      </c:catAx>
      <c:valAx>
        <c:axId val="691716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4731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8513-D0B4-4D9C-BE92-DC79BE623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12D2-AA2B-446B-935B-589204668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1EAC-6F5F-4A43-9F36-BC139C827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067E-9237-4A96-A97E-12519B180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7DDA-9270-48C2-9B15-3CACC983F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9C17-FC07-41CD-B6AD-C38593D8E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F183-4B9A-492C-B948-4247AEAE9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E10E-83FA-4A11-982E-8ACD6C8E6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97D1-9481-4261-977B-17479FE05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7805-FDC1-436A-8985-A48CAE69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A9AC-2AAA-4ABD-8B30-8407F5F7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7F77-1595-4EEA-85CF-4E3A0789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127999-A79F-4F43-B825-B0AFDF88A02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