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80066"/>
        <c:axId val="11295797"/>
      </c:barChart>
      <c:catAx>
        <c:axId val="43080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95797"/>
        <c:crosses val="autoZero"/>
        <c:auto val="1"/>
        <c:lblAlgn val="ctr"/>
        <c:lblOffset val="100"/>
        <c:noMultiLvlLbl val="0"/>
      </c:catAx>
      <c:valAx>
        <c:axId val="11295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80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FCC-650E-44F6-8EE8-DD55CA51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7A4-7580-44B5-A3A8-34742172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4BC-01A2-4067-B3B2-3036079B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19A-44CE-4113-866E-2ABBF429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69D-0983-4CE9-B731-0878E63E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BB5-2F7E-473D-A309-175B85A6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DD2-8803-406C-97D3-988DD214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EFB-6B39-459B-92FF-B7DBE444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DAF-8DAD-40C4-9FB8-14FEB484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BDD-4B18-4CEA-BEC4-8DE62D42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9C79-6001-4D01-BC41-F3B3601A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71D-BA78-4E9F-AAA9-71540066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264AF-F4D6-4C2E-8491-8FD6B758F8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