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26981"/>
        <c:axId val="47949743"/>
      </c:barChart>
      <c:catAx>
        <c:axId val="70626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49743"/>
        <c:crosses val="autoZero"/>
        <c:auto val="1"/>
        <c:lblAlgn val="ctr"/>
        <c:lblOffset val="100"/>
        <c:noMultiLvlLbl val="0"/>
      </c:catAx>
      <c:valAx>
        <c:axId val="47949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26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AFD-637F-42E6-93E8-F09C8348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EA9-858B-408A-BC0D-EFD270B3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0FB-ABB9-4669-B1A7-AB19D921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3B5-84A5-411A-AED6-2A69459B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498-66EF-4ADF-BCA4-3E023632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390-7840-48E1-82B2-238D9CBC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CF8-03E6-4512-890D-EFC538DC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DD9-EBF0-4FA4-8469-5D7C0415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CE7-CA95-4FAC-A4F9-234B3F3F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48F-8396-41B1-A90C-074C446A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780-7848-4F94-898E-3C9D9618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9A3-4970-4C8E-BD0F-A03942D1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CA8AB-4CD7-4F8C-9D06-1D563828EE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