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93971"/>
        <c:axId val="81457398"/>
      </c:barChart>
      <c:catAx>
        <c:axId val="29293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7398"/>
        <c:crosses val="autoZero"/>
        <c:auto val="1"/>
        <c:lblAlgn val="ctr"/>
        <c:lblOffset val="100"/>
        <c:noMultiLvlLbl val="0"/>
      </c:catAx>
      <c:valAx>
        <c:axId val="81457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93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BA1-3FBC-4A93-8DDA-FE6B9041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59D-3DDB-4AE7-BC48-9D8904D0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447-0D5E-4064-B939-B9739C87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3A5-7F28-4C8A-8D13-31F63B8E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31C-38F0-4E0F-8329-6CEB38B5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773-A67A-4A9C-A5AA-D97C6275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F99-3505-4CD7-8184-1F4D089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D8D-8C95-4287-B8FE-E060A3D0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BB3-4AC7-4062-A421-8C88CE8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79C-52E3-4EB0-9C39-5F285CE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63F-039F-43E4-B887-98C7175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DE8-0C1E-4537-A388-AFEE9BB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CDE20-1446-405C-854B-B6506EFE6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