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23005"/>
        <c:axId val="61256541"/>
      </c:barChart>
      <c:catAx>
        <c:axId val="59923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6541"/>
        <c:crosses val="autoZero"/>
        <c:auto val="1"/>
        <c:lblAlgn val="ctr"/>
        <c:lblOffset val="100"/>
        <c:noMultiLvlLbl val="0"/>
      </c:catAx>
      <c:valAx>
        <c:axId val="61256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3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CD1-274A-483A-B20D-3F071048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B47-A34A-423A-B91E-FAECD85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F0D-6385-4B94-87A7-63B8A00A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F0B-7531-462E-A00A-0A6D3154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3B6-C9B6-41F9-BE8F-AABD0551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F53-6B23-4410-906F-69ED283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E1C-A924-4FCD-BE16-0307AD1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701-92B6-4E74-9542-D4ED68C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50D-1EF7-4C33-97F2-242FD966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96E-5895-4C9C-A509-685B4195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CBF-1FA6-43D9-80EE-536453B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EE8-F8CB-48DE-BCEA-AD82625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80754-9439-4D58-B803-F9DAF5752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